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1784C-4490-42DC-90C1-2C2E39B24A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90BC6-F38D-4D56-B432-FCE61F7C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F5DB54-4D1E-4C8C-8794-CEF06BF3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4CE133-D34A-40C4-9E5E-094504FB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D64F93-B801-4405-A113-34DE55F4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DFC3D9-2AED-47BA-BD47-A6DABA92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65891B-071F-4028-92E1-08116AE3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DE65F2-F935-439B-9C2E-9B14700F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20CC3A-EFBA-4EC0-AEC4-96DAF3AA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0A14BF-2F4B-4D62-A63A-AA341F3B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B56E85-9158-46E0-9C57-2CB4457258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65F69-CE5D-40D0-BC48-21241D2050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14314-7A80-4D53-89CB-F90BCA7C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A41F3-027F-4798-8670-D59F0EA8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943E4-6B8B-47BD-8474-73BBAFC7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8A94A-D54C-4A28-BF33-83693194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E5F9E-3EC4-4EC0-97AF-11339028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E700C-9F77-429B-902F-23863E1F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0AEC6-8520-4746-B473-D7A9DD42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DC605-DB0C-42A9-9E1F-C7288A3D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CE019-EB1C-48BB-8517-871E8475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F294E-A468-4C28-8BB6-EDC9E37A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00CBF-4D18-4A1F-A356-05CFFE70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FE704-4E2B-48EF-87E8-295C9453B9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BE672-4296-4F48-BED9-C2EFAC6B9B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493036-D437-4C76-B8A6-A6C9B7F01F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2D8697-E1F7-4B39-94CE-FF4F2209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BE1BA1-58C4-44CD-BE8F-B182B9B2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D0BBE3-B32D-4F6F-8C52-639945EE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C22854-B57F-4315-8A34-DCEE75BD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8FC591-5958-4CCD-BC30-E1E05FAE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BF93E5-FDBE-4DA6-9D0A-E0B30611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81D872-8696-4586-9F32-1834C5AB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D06383-E788-4D6C-AC39-54C23D2C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C8B0F-317C-4440-95E1-C528282F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EBC1FE-9B2D-4B2A-9866-745A7FC0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7E6657-507F-4BCD-8D43-B511814D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CDD5E9-4B0F-4D96-AB4F-29299C2706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DE6BBF-977B-4D95-B8DD-058BBFDCF9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2D2BA5-2AC3-4B0D-9CD1-C0EE84C1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D3B175-BF8E-4A05-8C19-406A2F20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48E3F9-21E6-4A70-B361-382F06F1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2C2875-7AEB-47B4-9D9B-81296155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B8BF87-034D-405A-B05B-7E04FF7E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3B16CC-8E9B-469F-B391-9BB262E3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933DF-D9FD-4A9F-AE7E-92381F85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B8EF64-2B0F-4EC9-99AE-F424378F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8AD848-3BD6-4203-B571-DBC54D86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C4A656-50E0-4024-A9C6-C33EFFAC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914FBD-9F86-43AE-8805-82E3DE8B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53D9C7-39E6-4AAE-AE12-8FF3EE785B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F39D3-1A58-4C36-AB83-8320A15AB0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03C0A-E897-4743-A0F5-09569229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260A1-564E-43F0-B842-41D82A24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4B63F-2018-4799-ABBB-89C30FAF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4EC9E-C225-49AE-A77B-5700ED8B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FA172-692D-4395-8B74-AA2D4883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63A95-D31D-4AE4-A01C-D8D465FD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97320-7161-4436-8EBE-7FEB61C0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F7B59-8DBE-4AEC-AAD1-8B16B051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6EF20-663B-4C69-BC5E-836D78C3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735A2-F5EE-4D24-B78E-784B469C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78FC8-039D-4F68-BFF5-ABE49359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4BD02-CD51-4D37-91DC-D7F299EEB5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AF7EA-4DAB-43A2-A623-393EFEBA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DA903-E4BF-43CB-ACB6-ED74F28B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7E1C9-4A4A-4C12-99F4-5DAE89A8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E73C2-7D9D-4106-B5BD-79F62331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1253C-77D5-4393-8ED0-78005419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18B7C-781B-4F4D-86D8-BF164B49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D3195-0643-40F5-9878-1B363645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21B58-CD6C-4CAA-83C9-386B3458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48C0B-C886-4C8D-8334-2425B920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ED4CA-97C6-449D-854C-3FAB9DAD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296A5-55E9-4602-980E-BE5325DC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0F650-88CB-40FF-A274-A0FAA15F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827E9-DF6E-406A-8EF4-002DA393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7C885-353D-49F5-8EFE-5C705CE9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9BFA9-8249-4A0A-BEBD-4CF264C5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60898-7DD4-4920-A884-7388CAA0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22E0C-ADDF-4520-B19F-BDB454F6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E3106-D5FE-40DE-929B-54B97F2E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582CB-1AB5-4041-BE9E-13A744FE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64D2F-865D-4D8C-9739-EF775F9C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23A95-B566-458B-95DA-C5A0F807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EBEEB-D07E-43EF-B477-9417E0D8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BB04B-94CF-40C7-A5EA-35E7C46F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8278C-069B-429F-9396-219EAD1A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7A272-6FB2-4F54-9E58-AF46C3DC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F3898-F35A-4FB9-A0F1-1AA66B14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37EBF-51B2-45D2-A4F1-1BDB0DBB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C0323-291D-45A6-83BE-581D4BB7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9ABD6-43F1-46FC-A8DB-C7E3E9DE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4B5A6-0902-4A59-AED6-9EC6725C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1F24D-3B38-4962-9431-EE58FB00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492FE-17A9-4F6D-844E-7D9E4110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50738-4C7F-49B6-969E-43D3AEB4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DAFE2-24DB-4FA4-B5A3-9A3463D1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492B8-B10A-4A75-8331-05527649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860EB-BCDD-420F-B425-68A94E83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0459B-0B85-48E5-828C-F0193203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49EE0-C71A-470B-B18C-73FAEA8E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AAD5E-8C18-4BA6-8446-44640527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C4C01-8991-49D5-A37F-8176ECAC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76FB5-98B6-4869-85C3-5F61EF7B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E03C3B-16B6-4C8E-B202-3552409F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F52731-C131-497A-8E3C-9F0293D6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EF7A67-E13D-4089-9089-FD49C1AD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60BA53-08B9-4DAA-9D53-F4B5A4CB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91DB93-E3D7-441E-81E0-8C1EB4D5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47067A-6FD4-4E32-AA53-EE90AA52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1EE7B-470A-429B-8DD2-734F7D68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F69CE-C2CE-4A5E-AF7E-96FEDA01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C59ADD-0179-4498-B459-8E91221D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27F6C4-59CD-47AC-AF8E-E01B24BA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65AD58-3042-446D-A116-A4EF03A6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CEDFA7-C2CA-4A54-B60A-AED193C3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FCFBEA-4918-4AB6-9FA7-318D1CBE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4DCFF2-1B12-464A-B751-3FBD1E08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198010-851B-4F18-9DBE-478910AB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C8E1EB-60A6-4B8F-89F8-B0E83824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887560-28AA-4202-BF2F-E30CB484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57CCBD-A4D1-4C9B-9315-45AB0313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FCCD0-C931-4F1D-BEA3-5F7E7895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260A7E-AFB5-4CE1-BB52-49007770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D40049-4EAA-4D42-BF35-D96114A9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0B8779-D2CD-47E8-932A-FA06CBE6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8A1E7C-2BBD-4639-BC0B-B8F40907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C0D98B-19D6-4377-A0D5-E51BB36E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CAB2C4-9189-40CF-8208-FA59370C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A19384-D317-4BD3-9E42-E2B72538C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632D4A-0314-45CE-8631-B1731680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C39866-ADFD-4780-89D9-055A0EF4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13A89B-147B-4905-8F17-A423B6B5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32735-33A0-4CC0-880D-34DCE239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0B576E-0034-4AAC-B38B-9DAF9A7F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340588-214B-4A52-BD9F-B1A12DC9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71B0C9-CA2B-490B-9575-E9F8B2D8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A41761-75ED-4962-9018-6936571D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E92FE7-AB25-4536-B18D-E4E30138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0B20F2-7AD9-4D49-A407-425B2BA4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265214-B1F9-4FD5-A52C-55C64A0B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50C0A3-1372-4684-BC5B-CF3C0379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2094ED-AAE4-48CF-8322-78538DD7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4C38BA-0386-4F3F-8064-234F5FA7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568C0-1970-4AE5-9638-2E61CD88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BB68F4-F619-4806-AAA4-C37BD3BC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B1FAA7-5CA0-45C8-BECE-06F2B041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4E99D1-F2AF-435A-A895-83F0CDC8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51BC2A-90DA-494E-BB59-727F272C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1763D4-CF8B-4D7F-8D80-E2755677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31E04C-65F9-475C-8E4A-2C9262F4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373035-AC85-4729-AC70-07E729E3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33F58D-5B7E-46A1-93CC-FD3254C5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EEFCEA-8BDE-4C74-B98B-848E93B9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6F076C-0893-4241-AA01-E8834A82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56C36-82F6-4B1B-B771-A7D0EF97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B763EA-6B7D-406C-85C7-CE3277E5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11959F-C41B-4AE6-978E-C408F2A0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D0FE1E-3440-44B3-A292-C6DCD2C6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D74824-8641-4A5D-868C-BB81EF37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32C451-24AD-4DFB-8939-3B8FE917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1AC03B-C8D0-42E5-98E2-806BEE90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2EEE4A-A6D9-4F50-A364-133562B2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AFFFFB-08DC-418A-964E-A1FCAB4F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5D0389-1C78-4AF0-A02A-6A4B8213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D53789-F569-44C0-A8E3-16E3666F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CF532E-9316-4321-B656-3525B55EDF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7F17BA-7959-4562-BC1D-5217C463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E0DDE8-FB94-48E2-A52B-E6A0B884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175837-F1F6-4DAF-B1BC-7D51F5BF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BD7FCF-4AC6-4F15-85BD-FAF4C57F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A2E461-D58A-4927-A84F-40AEA05C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B01039-A8B3-46E5-8556-2691D680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A75BA5-B4F7-418C-8102-FF4E3F7A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5A89DB-3B16-4A97-9D4E-F2CFCCCB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DA5F69-0746-4DBC-BA51-07EBB516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E389AF-0BD8-4A84-B34A-DE6C0C0C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6F23E0-50DA-4EF1-BDBF-AAC0CFFF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46A287-B09E-4527-92B8-5CE8F810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4E3E8B-873C-4BF5-946C-79B41191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D64F41-6DF1-45F0-9B35-6FEFC12C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11BD47-B34B-4B5A-BAC4-2A1D4816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49DD24-C014-4693-A73A-59845FD8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949F32-E310-4465-952C-3D10E698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ACF955-EA87-40D3-82B3-939F34DF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B1C0F7-F1ED-4570-AF19-CBF151A3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D6AE84-8EB7-4F37-9011-BEE0DB08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5C0BAC-C84E-4A47-9610-1B554384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A68532-91AE-41C2-A327-1F6E96CD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74A13A-E8E5-4583-B4A7-FFDABE95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8EFB1D-3F80-4F95-809B-7832C1B0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25CE51-B521-4693-B8D9-B06A7359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DA65B7-088A-413C-BE42-DB3721A1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366B84-1940-4160-A07F-655C73DC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98743F-0F5A-4ED2-9E6F-B595A20D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F88DBA-7F52-470B-B6C7-F96488E8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F88F4C-5D8A-4E88-9D02-0B036E65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762EC1-51D4-4D66-BD42-1B57D6D7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400659-4A20-4990-BC63-A90784DC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C123F3-55DF-4C66-8EC4-3213A0A6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A6D6CE-8E4F-41A1-80E7-B486DBDD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6B850A-F33C-41FC-91D0-F8BD3338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041093-205F-4E01-8D2A-15EF5F3C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BB5359-35C6-42A2-B9FE-F5F053FC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11C0D6-17AA-4CC6-9858-A679F1E0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FF427A-B102-4EB9-BC95-057F505C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37810B-4650-46FA-BF1E-81C7A467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13E4E6-E2E7-4028-9958-560D07DC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8DFAF4-B264-4539-A4CF-E51AB75C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E9382C-563F-457E-97FF-57A34866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AF9FA-9F09-44CB-900E-B61A953B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005DF7-B7F4-44C4-81AA-78C5AAB9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B25120-A891-4A2B-9BD3-698349DC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52FF7E-A610-4CA7-96B0-2630D781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668CA8-D759-40F4-BA40-27AA0B42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2878CB-2415-4FD6-A4BA-05F8D6D3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8FD67F-AA64-4DA8-BB20-7D425A20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BB4541-3B08-47B4-8524-31042EDE31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D6A65-B35B-46EA-95AE-71077489CA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A9348-2006-481E-A147-BD85EDB2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5D6E8-55A7-446F-8E04-82760531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93578-5D9F-4B59-ADBF-C4DABE03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EA8E0-A74E-4FC5-B169-FA391FEA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12DE6-8FFE-44E9-B71A-1577B8A3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54FD0-09E5-4114-B934-D59B9182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AAF4E-4786-424F-A218-F978B275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B8721-B982-4790-AAA0-5C42F1F5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46626-75E3-4107-AF0B-58AB931E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24036-742C-402D-9C82-7EA30558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AD184-1635-4C8E-9F20-868B8A44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3EF79-3EA2-4959-9416-E9FFFE3BDE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B6A0FE-E2DA-4B7B-8322-5ECE5DF99C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C56E8-2585-4B73-B53B-67AA8163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337175-A432-4B16-8C8D-7B11DF08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9251E5-6086-467E-B4CB-AE3BA7C3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4064B5-714F-46A8-A265-4147CE87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1BBEAA-75D3-4516-8A26-475CFE7F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C696AD-5CC3-4382-A870-44C3A6C2B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B909F2-CFC7-4AB3-B196-5417AD3B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C05614-F459-4606-BC03-17928658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5CEF07-CEAC-4D54-A8AA-093F5229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5023FA-4752-4028-B340-7785E85D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D327D1-C78E-4E9B-8311-EAFC25F6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F088C-B24C-4A47-B6F9-24695443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437C9D-EDE9-4DF8-8EC8-91333F5816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F33CBE-4AD2-41F1-B5B2-8762AF1ADE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A54CF0-DABE-4544-ACFF-29405FE9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599965-FB9A-4641-B6B1-CC12DCCD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C33125-D651-4EBA-8670-C036DC1B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7BD3A7-C2FA-4BCA-993B-170DB65D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3DED14-2312-4F7E-B5A2-711BF62E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D63363-E0EE-43BA-9685-0B483BD8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251667-07C2-4E6B-AB9B-202FDA54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21AE42-3E56-4295-9015-E0CE0AC2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C3D6A-F8EA-4086-9808-6E4FFDA0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622BD2-BF3D-4277-83A1-45E335A1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4AB904-C4D0-4DD8-AE3B-4EC68B3E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24F423-0D92-4E07-A470-8328280DDC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5F077-D72F-48C7-9B14-9D404ED3EA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BA03A-AEA9-42C6-BD5B-2093DC38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6B63F-6E06-475E-97B2-F24436FD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AFB2D-09B3-41A6-A512-963805DE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648C4-1E89-4431-8DF3-55D467ED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2C113-0995-4897-965A-481911A5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14476-C74E-4071-B020-36C0F963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B646D-B669-48E3-B9AE-29A36B47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5B764-2E85-4977-A3B9-5F2BBD7C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F4D03-87F8-43E5-B44E-9392142E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35CD2-1E57-4AC6-917B-586AAEAA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20E22-F15D-4A1E-91AB-CC02BC84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D8F5E-1E4E-4483-8CE2-7B3075D284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8EDB9E-5749-45D3-A0E9-FC160B3033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1D3D72-96D5-438C-BA10-B86C9890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2D548D-F399-468D-B962-5BAC3B5C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E7E4D9-E050-4D2F-A773-B9BBA7A9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1299E6-FF78-4229-A569-14B1A5D0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EE2B3-6A3D-4BEF-8785-9BEBD93D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87E52F-63E3-4923-8345-F7522D1E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3C2377-FD12-4DCE-B5E5-2FB2E5F5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F2CD91-F6D1-4F2D-A5A1-ED1D360B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7DC48B-51D5-4CAC-B4CF-E9E53C3D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3C8A92-6C1F-4039-8802-7BDF503A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533897-8338-4019-A7EB-84F2BC83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D823B3-9B4B-4FDA-B878-B6E8DE6B91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513105-BE4C-4C75-8BEC-37AF1821EB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836C1E-54C5-451D-8161-325A4986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4E7F2F-AD21-4362-9C7D-FB2F1485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D525-3199-4CA3-BF72-A28F3F26378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77EB-4C72-4C2D-A765-8D8BC2F215D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D1C4-1095-4450-B0F1-7D254BB1081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6615-4F48-4D60-A14E-D8FE8AE7D25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1021-A9FE-495A-A120-62A9108185A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89B8-FD30-468C-9E60-3AC87B3C7E6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3126-9568-4C8E-8C2D-F4B0200F905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9BC4-CF29-4C12-A243-0270CD03FD0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0939-1D76-40A8-9C9F-7FF7A4DF975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3468-AE31-4B38-98F2-5B588C21E50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C0A0-BA38-419D-93B7-D724FD142AF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6542-E8F4-4A2E-B0C2-CD13E33CDD8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C46A-EA18-43FC-85D2-B7CA407C80A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3B88-C677-454F-A4A1-A0FDB17E8BB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7379-44CE-4F64-9AFB-2B91637CA46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D7F7-68D8-4C04-BA48-3F13368D6B6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6964-0C22-406C-829E-950C24799AF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313E-F872-4DDC-BE4A-0CE55B821B0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3673-3227-4B9E-A607-ADE7A84913D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0E0A-2DF0-4185-A985-33AFE15E75D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E40E-9B39-4C6E-88AD-16E9A384697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6BE5-F429-4DA9-B3A4-DAB8514FAE8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3A7E-7AE9-41B8-8930-36DA3B398DA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8B3A-19A7-4FA3-B538-14B76841E4B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矩形 6" descr=""/>
          <p:cNvPicPr/>
          <p:nvPr/>
        </p:nvPicPr>
        <p:blipFill>
          <a:blip r:embed="rId1"/>
          <a:stretch/>
        </p:blipFill>
        <p:spPr>
          <a:xfrm>
            <a:off x="2271600" y="2414520"/>
            <a:ext cx="5170680" cy="1314360"/>
          </a:xfrm>
          <a:prstGeom prst="rect">
            <a:avLst/>
          </a:prstGeom>
          <a:ln w="0">
            <a:noFill/>
          </a:ln>
        </p:spPr>
      </p:pic>
      <p:sp>
        <p:nvSpPr>
          <p:cNvPr id="987" name="矩形 7"/>
          <p:cNvSpPr/>
          <p:nvPr/>
        </p:nvSpPr>
        <p:spPr>
          <a:xfrm>
            <a:off x="3016440" y="500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人教版一年级上册第九单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4"/>
          <p:cNvSpPr/>
          <p:nvPr/>
        </p:nvSpPr>
        <p:spPr>
          <a:xfrm>
            <a:off x="797400" y="1857240"/>
            <a:ext cx="6350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4" name="Group 25"/>
          <p:cNvGrpSpPr/>
          <p:nvPr/>
        </p:nvGrpSpPr>
        <p:grpSpPr>
          <a:xfrm>
            <a:off x="785880" y="714240"/>
            <a:ext cx="3217680" cy="958680"/>
            <a:chOff x="785880" y="714240"/>
            <a:chExt cx="3217680" cy="958680"/>
          </a:xfrm>
        </p:grpSpPr>
        <p:pic>
          <p:nvPicPr>
            <p:cNvPr id="1135" name="Picture 26" descr="虫子-01"/>
            <p:cNvPicPr/>
            <p:nvPr/>
          </p:nvPicPr>
          <p:blipFill>
            <a:blip r:embed="rId1"/>
            <a:stretch/>
          </p:blipFill>
          <p:spPr>
            <a:xfrm>
              <a:off x="785880" y="714240"/>
              <a:ext cx="3217680" cy="9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6" name="Rectangle 27"/>
            <p:cNvSpPr/>
            <p:nvPr/>
          </p:nvSpPr>
          <p:spPr>
            <a:xfrm>
              <a:off x="1085760" y="895320"/>
              <a:ext cx="24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认 识 钟 表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7" name="Picture 2" descr=""/>
          <p:cNvPicPr/>
          <p:nvPr/>
        </p:nvPicPr>
        <p:blipFill>
          <a:blip r:embed="rId2"/>
          <a:stretch/>
        </p:blipFill>
        <p:spPr>
          <a:xfrm>
            <a:off x="1643040" y="1857240"/>
            <a:ext cx="2571840" cy="253044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3" descr=""/>
          <p:cNvPicPr/>
          <p:nvPr/>
        </p:nvPicPr>
        <p:blipFill>
          <a:blip r:embed="rId3"/>
          <a:stretch/>
        </p:blipFill>
        <p:spPr>
          <a:xfrm>
            <a:off x="5072040" y="1857240"/>
            <a:ext cx="2617920" cy="2540160"/>
          </a:xfrm>
          <a:prstGeom prst="rect">
            <a:avLst/>
          </a:prstGeom>
          <a:ln w="0">
            <a:noFill/>
          </a:ln>
        </p:spPr>
      </p:pic>
      <p:sp>
        <p:nvSpPr>
          <p:cNvPr id="1139" name="Rectangle 5"/>
          <p:cNvSpPr/>
          <p:nvPr/>
        </p:nvSpPr>
        <p:spPr>
          <a:xfrm>
            <a:off x="2071800" y="4429080"/>
            <a:ext cx="221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快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时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5"/>
          <p:cNvSpPr/>
          <p:nvPr/>
        </p:nvSpPr>
        <p:spPr>
          <a:xfrm>
            <a:off x="5357880" y="4500720"/>
            <a:ext cx="250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时过一点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1" name="Picture 4" descr="P-117-2"/>
          <p:cNvPicPr/>
          <p:nvPr/>
        </p:nvPicPr>
        <p:blipFill>
          <a:blip r:embed="rId1"/>
          <a:stretch/>
        </p:blipFill>
        <p:spPr>
          <a:xfrm>
            <a:off x="2195640" y="1484280"/>
            <a:ext cx="4662360" cy="3648240"/>
          </a:xfrm>
          <a:prstGeom prst="rect">
            <a:avLst/>
          </a:prstGeom>
          <a:ln w="0">
            <a:noFill/>
          </a:ln>
        </p:spPr>
      </p:pic>
      <p:sp>
        <p:nvSpPr>
          <p:cNvPr id="1142" name="Rectangle 5"/>
          <p:cNvSpPr/>
          <p:nvPr/>
        </p:nvSpPr>
        <p:spPr>
          <a:xfrm>
            <a:off x="1072440" y="1550880"/>
            <a:ext cx="605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9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3" name="Group 6"/>
          <p:cNvGrpSpPr/>
          <p:nvPr/>
        </p:nvGrpSpPr>
        <p:grpSpPr>
          <a:xfrm>
            <a:off x="2851200" y="5038560"/>
            <a:ext cx="3276000" cy="687600"/>
            <a:chOff x="2851200" y="5038560"/>
            <a:chExt cx="3276000" cy="687600"/>
          </a:xfrm>
        </p:grpSpPr>
        <p:sp>
          <p:nvSpPr>
            <p:cNvPr id="1144" name="Rectangle 7"/>
            <p:cNvSpPr/>
            <p:nvPr/>
          </p:nvSpPr>
          <p:spPr>
            <a:xfrm>
              <a:off x="3891240" y="5038560"/>
              <a:ext cx="2235960" cy="6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+    </a:t>
              </a:r>
              <a:r>
                <a:rPr b="1" lang="en-US" sz="3000" spc="-1" strike="noStrike" baseline="30000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=     (</a:t>
              </a:r>
              <a:r>
                <a:rPr b="1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辆</a:t>
              </a:r>
              <a:r>
                <a:rPr b="1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Rectangle 8"/>
            <p:cNvSpPr/>
            <p:nvPr/>
          </p:nvSpPr>
          <p:spPr>
            <a:xfrm>
              <a:off x="4964040" y="5210280"/>
              <a:ext cx="550800" cy="496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Rectangle 9"/>
            <p:cNvSpPr/>
            <p:nvPr/>
          </p:nvSpPr>
          <p:spPr>
            <a:xfrm>
              <a:off x="2851200" y="5210280"/>
              <a:ext cx="550800" cy="496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Rectangle 10"/>
            <p:cNvSpPr/>
            <p:nvPr/>
          </p:nvSpPr>
          <p:spPr>
            <a:xfrm>
              <a:off x="3884760" y="5210280"/>
              <a:ext cx="550800" cy="496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8" name="Rectangle 11"/>
          <p:cNvSpPr/>
          <p:nvPr/>
        </p:nvSpPr>
        <p:spPr>
          <a:xfrm>
            <a:off x="4751280" y="5094360"/>
            <a:ext cx="8589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12"/>
          <p:cNvSpPr/>
          <p:nvPr/>
        </p:nvSpPr>
        <p:spPr>
          <a:xfrm>
            <a:off x="2895840" y="5094360"/>
            <a:ext cx="41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13"/>
          <p:cNvSpPr/>
          <p:nvPr/>
        </p:nvSpPr>
        <p:spPr>
          <a:xfrm>
            <a:off x="3935880" y="5108400"/>
            <a:ext cx="41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1" name="Group 14"/>
          <p:cNvGrpSpPr/>
          <p:nvPr/>
        </p:nvGrpSpPr>
        <p:grpSpPr>
          <a:xfrm>
            <a:off x="1042920" y="692280"/>
            <a:ext cx="3217680" cy="958680"/>
            <a:chOff x="1042920" y="692280"/>
            <a:chExt cx="3217680" cy="958680"/>
          </a:xfrm>
        </p:grpSpPr>
        <p:pic>
          <p:nvPicPr>
            <p:cNvPr id="1152" name="Picture 15" descr="虫子-01"/>
            <p:cNvPicPr/>
            <p:nvPr/>
          </p:nvPicPr>
          <p:blipFill>
            <a:blip r:embed="rId2"/>
            <a:stretch/>
          </p:blipFill>
          <p:spPr>
            <a:xfrm>
              <a:off x="1042920" y="692280"/>
              <a:ext cx="3217680" cy="9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3" name="Rectangle 16"/>
            <p:cNvSpPr/>
            <p:nvPr/>
          </p:nvSpPr>
          <p:spPr>
            <a:xfrm>
              <a:off x="1342800" y="873360"/>
              <a:ext cx="24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用  数  学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Group 17"/>
          <p:cNvGrpSpPr/>
          <p:nvPr/>
        </p:nvGrpSpPr>
        <p:grpSpPr>
          <a:xfrm>
            <a:off x="1187280" y="4076640"/>
            <a:ext cx="2373480" cy="687600"/>
            <a:chOff x="1187280" y="4076640"/>
            <a:chExt cx="2373480" cy="687600"/>
          </a:xfrm>
        </p:grpSpPr>
        <p:pic>
          <p:nvPicPr>
            <p:cNvPr id="1155" name="Picture 18" descr="008"/>
            <p:cNvPicPr/>
            <p:nvPr/>
          </p:nvPicPr>
          <p:blipFill>
            <a:blip r:embed="rId3"/>
            <a:stretch/>
          </p:blipFill>
          <p:spPr>
            <a:xfrm>
              <a:off x="1187280" y="4076640"/>
              <a:ext cx="2373480" cy="6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6" name="Rectangle 19"/>
            <p:cNvSpPr/>
            <p:nvPr/>
          </p:nvSpPr>
          <p:spPr>
            <a:xfrm>
              <a:off x="1636560" y="414972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开来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辆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Group 20"/>
          <p:cNvGrpSpPr/>
          <p:nvPr/>
        </p:nvGrpSpPr>
        <p:grpSpPr>
          <a:xfrm>
            <a:off x="5364000" y="4076640"/>
            <a:ext cx="3136680" cy="687600"/>
            <a:chOff x="5364000" y="4076640"/>
            <a:chExt cx="3136680" cy="687600"/>
          </a:xfrm>
        </p:grpSpPr>
        <p:pic>
          <p:nvPicPr>
            <p:cNvPr id="1158" name="Picture 21" descr="008"/>
            <p:cNvPicPr/>
            <p:nvPr/>
          </p:nvPicPr>
          <p:blipFill>
            <a:blip r:embed="rId4"/>
            <a:stretch/>
          </p:blipFill>
          <p:spPr>
            <a:xfrm>
              <a:off x="5364000" y="4076640"/>
              <a:ext cx="3136680" cy="6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9" name="Rectangle 22"/>
            <p:cNvSpPr/>
            <p:nvPr/>
          </p:nvSpPr>
          <p:spPr>
            <a:xfrm>
              <a:off x="5714640" y="4143600"/>
              <a:ext cx="273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现在有几辆车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AutoShape 3"/>
          <p:cNvSpPr/>
          <p:nvPr/>
        </p:nvSpPr>
        <p:spPr>
          <a:xfrm>
            <a:off x="2124000" y="2295360"/>
            <a:ext cx="514440" cy="52092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4"/>
          <p:cNvSpPr/>
          <p:nvPr/>
        </p:nvSpPr>
        <p:spPr>
          <a:xfrm>
            <a:off x="971640" y="2924280"/>
            <a:ext cx="411120" cy="69372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5"/>
          <p:cNvSpPr/>
          <p:nvPr/>
        </p:nvSpPr>
        <p:spPr>
          <a:xfrm>
            <a:off x="2482920" y="3230640"/>
            <a:ext cx="411120" cy="69372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6"/>
          <p:cNvSpPr/>
          <p:nvPr/>
        </p:nvSpPr>
        <p:spPr>
          <a:xfrm>
            <a:off x="3059280" y="2367000"/>
            <a:ext cx="514080" cy="52056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AutoShape 7"/>
          <p:cNvSpPr/>
          <p:nvPr/>
        </p:nvSpPr>
        <p:spPr>
          <a:xfrm>
            <a:off x="3419640" y="3375000"/>
            <a:ext cx="514080" cy="52056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AutoShape 8"/>
          <p:cNvSpPr/>
          <p:nvPr/>
        </p:nvSpPr>
        <p:spPr>
          <a:xfrm>
            <a:off x="4140360" y="2655720"/>
            <a:ext cx="514080" cy="52092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AutoShape 9"/>
          <p:cNvSpPr/>
          <p:nvPr/>
        </p:nvSpPr>
        <p:spPr>
          <a:xfrm>
            <a:off x="4282920" y="3446640"/>
            <a:ext cx="514440" cy="5205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AutoShape 10"/>
          <p:cNvSpPr/>
          <p:nvPr/>
        </p:nvSpPr>
        <p:spPr>
          <a:xfrm rot="16200000">
            <a:off x="2779560" y="2430000"/>
            <a:ext cx="269640" cy="3597120"/>
          </a:xfrm>
          <a:custGeom>
            <a:avLst/>
            <a:gdLst>
              <a:gd name="textAreaLeft" fmla="*/ 172440 w 269640"/>
              <a:gd name="textAreaRight" fmla="*/ 270000 w 269640"/>
              <a:gd name="textAreaTop" fmla="*/ 93600 h 3597120"/>
              <a:gd name="textAreaBottom" fmla="*/ 3503520 h 359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11"/>
          <p:cNvSpPr/>
          <p:nvPr/>
        </p:nvSpPr>
        <p:spPr>
          <a:xfrm>
            <a:off x="2556000" y="4527720"/>
            <a:ext cx="13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12"/>
          <p:cNvSpPr/>
          <p:nvPr/>
        </p:nvSpPr>
        <p:spPr>
          <a:xfrm>
            <a:off x="5796000" y="1557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+6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13"/>
          <p:cNvSpPr/>
          <p:nvPr/>
        </p:nvSpPr>
        <p:spPr>
          <a:xfrm>
            <a:off x="5867280" y="24271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+5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14"/>
          <p:cNvSpPr/>
          <p:nvPr/>
        </p:nvSpPr>
        <p:spPr>
          <a:xfrm>
            <a:off x="5867280" y="32194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+4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Text Box 4"/>
          <p:cNvSpPr/>
          <p:nvPr/>
        </p:nvSpPr>
        <p:spPr>
          <a:xfrm>
            <a:off x="357120" y="2428920"/>
            <a:ext cx="20001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年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5"/>
          <p:cNvSpPr/>
          <p:nvPr/>
        </p:nvSpPr>
        <p:spPr>
          <a:xfrm>
            <a:off x="2349360" y="3608280"/>
            <a:ext cx="1774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数与计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6"/>
          <p:cNvSpPr/>
          <p:nvPr/>
        </p:nvSpPr>
        <p:spPr>
          <a:xfrm>
            <a:off x="2286000" y="2000160"/>
            <a:ext cx="2585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认识图形（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8"/>
          <p:cNvSpPr/>
          <p:nvPr/>
        </p:nvSpPr>
        <p:spPr>
          <a:xfrm>
            <a:off x="2357280" y="5429160"/>
            <a:ext cx="1800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认识钟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AutoShape 9"/>
          <p:cNvSpPr/>
          <p:nvPr/>
        </p:nvSpPr>
        <p:spPr>
          <a:xfrm>
            <a:off x="2000160" y="1143000"/>
            <a:ext cx="298440" cy="4714920"/>
          </a:xfrm>
          <a:custGeom>
            <a:avLst/>
            <a:gdLst>
              <a:gd name="textAreaLeft" fmla="*/ 190800 w 298440"/>
              <a:gd name="textAreaRight" fmla="*/ 298800 w 298440"/>
              <a:gd name="textAreaTop" fmla="*/ 73800 h 4714920"/>
              <a:gd name="textAreaBottom" fmla="*/ 4641120 h 471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42"/>
                  <a:pt x="10800" y="1083"/>
                </a:cubicBezTo>
                <a:lnTo>
                  <a:pt x="10800" y="9717"/>
                </a:lnTo>
                <a:cubicBezTo>
                  <a:pt x="10800" y="10259"/>
                  <a:pt x="5400" y="10800"/>
                  <a:pt x="0" y="10800"/>
                </a:cubicBezTo>
                <a:cubicBezTo>
                  <a:pt x="5400" y="10800"/>
                  <a:pt x="10800" y="11342"/>
                  <a:pt x="10800" y="11883"/>
                </a:cubicBezTo>
                <a:lnTo>
                  <a:pt x="10800" y="20517"/>
                </a:lnTo>
                <a:cubicBezTo>
                  <a:pt x="10800" y="2105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AutoShape 10"/>
          <p:cNvSpPr/>
          <p:nvPr/>
        </p:nvSpPr>
        <p:spPr>
          <a:xfrm>
            <a:off x="4000680" y="3002040"/>
            <a:ext cx="249120" cy="1927080"/>
          </a:xfrm>
          <a:custGeom>
            <a:avLst/>
            <a:gdLst>
              <a:gd name="textAreaLeft" fmla="*/ 159120 w 249120"/>
              <a:gd name="textAreaRight" fmla="*/ 249480 w 249120"/>
              <a:gd name="textAreaTop" fmla="*/ 37440 h 1927080"/>
              <a:gd name="textAreaBottom" fmla="*/ 1889640 h 192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2"/>
                  <a:pt x="10800" y="1344"/>
                </a:cubicBezTo>
                <a:lnTo>
                  <a:pt x="10800" y="9456"/>
                </a:lnTo>
                <a:cubicBezTo>
                  <a:pt x="10800" y="10128"/>
                  <a:pt x="5400" y="10800"/>
                  <a:pt x="0" y="10800"/>
                </a:cubicBezTo>
                <a:cubicBezTo>
                  <a:pt x="5400" y="10800"/>
                  <a:pt x="10800" y="11472"/>
                  <a:pt x="10800" y="12144"/>
                </a:cubicBezTo>
                <a:lnTo>
                  <a:pt x="10800" y="20256"/>
                </a:lnTo>
                <a:cubicBezTo>
                  <a:pt x="10800" y="2092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1"/>
          <p:cNvSpPr/>
          <p:nvPr/>
        </p:nvSpPr>
        <p:spPr>
          <a:xfrm>
            <a:off x="4216320" y="2714760"/>
            <a:ext cx="40006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1 ~ 5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的认识、加减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12"/>
          <p:cNvSpPr/>
          <p:nvPr/>
        </p:nvSpPr>
        <p:spPr>
          <a:xfrm>
            <a:off x="4235400" y="3324240"/>
            <a:ext cx="3908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6 ~ 10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的认识、加减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13"/>
          <p:cNvSpPr/>
          <p:nvPr/>
        </p:nvSpPr>
        <p:spPr>
          <a:xfrm>
            <a:off x="4216320" y="3976560"/>
            <a:ext cx="40006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11 ~ 20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的认识、加减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14"/>
          <p:cNvSpPr/>
          <p:nvPr/>
        </p:nvSpPr>
        <p:spPr>
          <a:xfrm>
            <a:off x="4243320" y="4562640"/>
            <a:ext cx="35449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20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以内进位加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7"/>
          <p:cNvSpPr/>
          <p:nvPr/>
        </p:nvSpPr>
        <p:spPr>
          <a:xfrm>
            <a:off x="2338560" y="857160"/>
            <a:ext cx="1143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AutoShape 18"/>
          <p:cNvSpPr/>
          <p:nvPr/>
        </p:nvSpPr>
        <p:spPr>
          <a:xfrm>
            <a:off x="3214800" y="785880"/>
            <a:ext cx="285480" cy="795240"/>
          </a:xfrm>
          <a:custGeom>
            <a:avLst/>
            <a:gdLst>
              <a:gd name="textAreaLeft" fmla="*/ 182520 w 285480"/>
              <a:gd name="textAreaRight" fmla="*/ 285840 w 285480"/>
              <a:gd name="textAreaTop" fmla="*/ 22320 h 795240"/>
              <a:gd name="textAreaBottom" fmla="*/ 772920 h 795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3"/>
                  <a:pt x="10800" y="1965"/>
                </a:cubicBezTo>
                <a:lnTo>
                  <a:pt x="10800" y="8835"/>
                </a:lnTo>
                <a:cubicBezTo>
                  <a:pt x="10800" y="9818"/>
                  <a:pt x="5400" y="10800"/>
                  <a:pt x="0" y="10800"/>
                </a:cubicBezTo>
                <a:cubicBezTo>
                  <a:pt x="5400" y="10800"/>
                  <a:pt x="10800" y="11783"/>
                  <a:pt x="10800" y="12765"/>
                </a:cubicBezTo>
                <a:lnTo>
                  <a:pt x="10800" y="19635"/>
                </a:lnTo>
                <a:cubicBezTo>
                  <a:pt x="10800" y="2061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19"/>
          <p:cNvSpPr/>
          <p:nvPr/>
        </p:nvSpPr>
        <p:spPr>
          <a:xfrm>
            <a:off x="3500280" y="571680"/>
            <a:ext cx="1987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黑体"/>
              </a:rPr>
              <a:t>上下、前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22"/>
          <p:cNvSpPr/>
          <p:nvPr/>
        </p:nvSpPr>
        <p:spPr>
          <a:xfrm>
            <a:off x="3500280" y="1214280"/>
            <a:ext cx="15004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黑体"/>
              </a:rPr>
              <a:t>左、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18"/>
          <p:cNvSpPr/>
          <p:nvPr/>
        </p:nvSpPr>
        <p:spPr>
          <a:xfrm>
            <a:off x="4086360" y="5491080"/>
            <a:ext cx="285480" cy="795600"/>
          </a:xfrm>
          <a:custGeom>
            <a:avLst/>
            <a:gdLst>
              <a:gd name="textAreaLeft" fmla="*/ 182520 w 285480"/>
              <a:gd name="textAreaRight" fmla="*/ 285840 w 285480"/>
              <a:gd name="textAreaTop" fmla="*/ 22320 h 795600"/>
              <a:gd name="textAreaBottom" fmla="*/ 773280 h 79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3"/>
                  <a:pt x="10800" y="1965"/>
                </a:cubicBezTo>
                <a:lnTo>
                  <a:pt x="10800" y="8835"/>
                </a:lnTo>
                <a:cubicBezTo>
                  <a:pt x="10800" y="9818"/>
                  <a:pt x="5400" y="10800"/>
                  <a:pt x="0" y="10800"/>
                </a:cubicBezTo>
                <a:cubicBezTo>
                  <a:pt x="5400" y="10800"/>
                  <a:pt x="10800" y="11783"/>
                  <a:pt x="10800" y="12765"/>
                </a:cubicBezTo>
                <a:lnTo>
                  <a:pt x="10800" y="19635"/>
                </a:lnTo>
                <a:cubicBezTo>
                  <a:pt x="10800" y="2061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19"/>
          <p:cNvSpPr/>
          <p:nvPr/>
        </p:nvSpPr>
        <p:spPr>
          <a:xfrm>
            <a:off x="4370400" y="5205240"/>
            <a:ext cx="1987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黑体"/>
              </a:rPr>
              <a:t>认识钟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22"/>
          <p:cNvSpPr/>
          <p:nvPr/>
        </p:nvSpPr>
        <p:spPr>
          <a:xfrm>
            <a:off x="4367160" y="5929200"/>
            <a:ext cx="17859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黑体"/>
              </a:rPr>
              <a:t>认识整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6"/>
          <p:cNvSpPr/>
          <p:nvPr/>
        </p:nvSpPr>
        <p:spPr>
          <a:xfrm>
            <a:off x="6786720" y="4605480"/>
            <a:ext cx="16430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（凑十法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AutoShape 18"/>
          <p:cNvSpPr/>
          <p:nvPr/>
        </p:nvSpPr>
        <p:spPr>
          <a:xfrm>
            <a:off x="4799160" y="1857240"/>
            <a:ext cx="285480" cy="795600"/>
          </a:xfrm>
          <a:custGeom>
            <a:avLst/>
            <a:gdLst>
              <a:gd name="textAreaLeft" fmla="*/ 182520 w 285480"/>
              <a:gd name="textAreaRight" fmla="*/ 285840 w 285480"/>
              <a:gd name="textAreaTop" fmla="*/ 22320 h 795600"/>
              <a:gd name="textAreaBottom" fmla="*/ 773280 h 79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3"/>
                  <a:pt x="10800" y="1965"/>
                </a:cubicBezTo>
                <a:lnTo>
                  <a:pt x="10800" y="8835"/>
                </a:lnTo>
                <a:cubicBezTo>
                  <a:pt x="10800" y="9818"/>
                  <a:pt x="5400" y="10800"/>
                  <a:pt x="0" y="10800"/>
                </a:cubicBezTo>
                <a:cubicBezTo>
                  <a:pt x="5400" y="10800"/>
                  <a:pt x="10800" y="11783"/>
                  <a:pt x="10800" y="12765"/>
                </a:cubicBezTo>
                <a:lnTo>
                  <a:pt x="10800" y="19635"/>
                </a:lnTo>
                <a:cubicBezTo>
                  <a:pt x="10800" y="2061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19"/>
          <p:cNvSpPr/>
          <p:nvPr/>
        </p:nvSpPr>
        <p:spPr>
          <a:xfrm>
            <a:off x="5084640" y="1643040"/>
            <a:ext cx="1987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黑体"/>
              </a:rPr>
              <a:t>立体图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22"/>
          <p:cNvSpPr/>
          <p:nvPr/>
        </p:nvSpPr>
        <p:spPr>
          <a:xfrm>
            <a:off x="5084640" y="2286000"/>
            <a:ext cx="1987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黑体"/>
              </a:rPr>
              <a:t>图形的拼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Picture 2" descr="5"/>
          <p:cNvPicPr/>
          <p:nvPr/>
        </p:nvPicPr>
        <p:blipFill>
          <a:blip r:embed="rId1"/>
          <a:stretch/>
        </p:blipFill>
        <p:spPr>
          <a:xfrm>
            <a:off x="1071720" y="1285920"/>
            <a:ext cx="7429320" cy="5213160"/>
          </a:xfrm>
          <a:prstGeom prst="rect">
            <a:avLst/>
          </a:prstGeom>
          <a:ln w="0">
            <a:noFill/>
          </a:ln>
        </p:spPr>
      </p:pic>
      <p:sp>
        <p:nvSpPr>
          <p:cNvPr id="1010" name="Rectangle 4"/>
          <p:cNvSpPr/>
          <p:nvPr/>
        </p:nvSpPr>
        <p:spPr>
          <a:xfrm>
            <a:off x="504360" y="2071800"/>
            <a:ext cx="605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Group 36"/>
          <p:cNvGrpSpPr/>
          <p:nvPr/>
        </p:nvGrpSpPr>
        <p:grpSpPr>
          <a:xfrm>
            <a:off x="276120" y="608040"/>
            <a:ext cx="3217680" cy="958680"/>
            <a:chOff x="276120" y="608040"/>
            <a:chExt cx="3217680" cy="958680"/>
          </a:xfrm>
        </p:grpSpPr>
        <p:pic>
          <p:nvPicPr>
            <p:cNvPr id="1012" name="Picture 37" descr="虫子-01"/>
            <p:cNvPicPr/>
            <p:nvPr/>
          </p:nvPicPr>
          <p:blipFill>
            <a:blip r:embed="rId2"/>
            <a:stretch/>
          </p:blipFill>
          <p:spPr>
            <a:xfrm>
              <a:off x="276120" y="608040"/>
              <a:ext cx="3217680" cy="9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3" name="Rectangle 38"/>
            <p:cNvSpPr/>
            <p:nvPr/>
          </p:nvSpPr>
          <p:spPr>
            <a:xfrm>
              <a:off x="499680" y="789120"/>
              <a:ext cx="244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上下 、前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4"/>
          <p:cNvSpPr/>
          <p:nvPr/>
        </p:nvSpPr>
        <p:spPr>
          <a:xfrm>
            <a:off x="507600" y="2071800"/>
            <a:ext cx="605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24" descr="p-03-1"/>
          <p:cNvPicPr/>
          <p:nvPr/>
        </p:nvPicPr>
        <p:blipFill>
          <a:blip r:embed="rId1"/>
          <a:stretch/>
        </p:blipFill>
        <p:spPr>
          <a:xfrm>
            <a:off x="1346040" y="1506600"/>
            <a:ext cx="6583680" cy="4417920"/>
          </a:xfrm>
          <a:prstGeom prst="rect">
            <a:avLst/>
          </a:prstGeom>
          <a:ln w="0">
            <a:noFill/>
          </a:ln>
        </p:spPr>
      </p:pic>
      <p:grpSp>
        <p:nvGrpSpPr>
          <p:cNvPr id="1016" name="Group 20"/>
          <p:cNvGrpSpPr/>
          <p:nvPr/>
        </p:nvGrpSpPr>
        <p:grpSpPr>
          <a:xfrm>
            <a:off x="542880" y="714240"/>
            <a:ext cx="2314800" cy="852480"/>
            <a:chOff x="542880" y="714240"/>
            <a:chExt cx="2314800" cy="852480"/>
          </a:xfrm>
        </p:grpSpPr>
        <p:pic>
          <p:nvPicPr>
            <p:cNvPr id="1017" name="Picture 21" descr="虫子-05"/>
            <p:cNvPicPr/>
            <p:nvPr/>
          </p:nvPicPr>
          <p:blipFill>
            <a:blip r:embed="rId2"/>
            <a:stretch/>
          </p:blipFill>
          <p:spPr>
            <a:xfrm>
              <a:off x="542880" y="714240"/>
              <a:ext cx="231480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8" name="Rectangle 22"/>
            <p:cNvSpPr/>
            <p:nvPr/>
          </p:nvSpPr>
          <p:spPr>
            <a:xfrm>
              <a:off x="822240" y="836280"/>
              <a:ext cx="200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左、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Group 31"/>
          <p:cNvGrpSpPr/>
          <p:nvPr/>
        </p:nvGrpSpPr>
        <p:grpSpPr>
          <a:xfrm>
            <a:off x="3643200" y="714240"/>
            <a:ext cx="1871640" cy="733680"/>
            <a:chOff x="3643200" y="714240"/>
            <a:chExt cx="1871640" cy="733680"/>
          </a:xfrm>
        </p:grpSpPr>
        <p:pic>
          <p:nvPicPr>
            <p:cNvPr id="1020" name="Picture 30" descr="007"/>
            <p:cNvPicPr/>
            <p:nvPr/>
          </p:nvPicPr>
          <p:blipFill>
            <a:blip r:embed="rId3"/>
            <a:stretch/>
          </p:blipFill>
          <p:spPr>
            <a:xfrm>
              <a:off x="3643200" y="714240"/>
              <a:ext cx="1871640" cy="73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1" name="Rectangle 11"/>
            <p:cNvSpPr/>
            <p:nvPr/>
          </p:nvSpPr>
          <p:spPr>
            <a:xfrm>
              <a:off x="4551120" y="7221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这是右手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Group 44"/>
          <p:cNvGrpSpPr/>
          <p:nvPr/>
        </p:nvGrpSpPr>
        <p:grpSpPr>
          <a:xfrm>
            <a:off x="5643720" y="2071800"/>
            <a:ext cx="2846160" cy="860400"/>
            <a:chOff x="5643720" y="2071800"/>
            <a:chExt cx="2846160" cy="860400"/>
          </a:xfrm>
        </p:grpSpPr>
        <p:pic>
          <p:nvPicPr>
            <p:cNvPr id="1023" name="Picture 42" descr="007"/>
            <p:cNvPicPr/>
            <p:nvPr/>
          </p:nvPicPr>
          <p:blipFill>
            <a:blip r:embed="rId4"/>
            <a:stretch/>
          </p:blipFill>
          <p:spPr>
            <a:xfrm>
              <a:off x="5643720" y="2071800"/>
              <a:ext cx="28461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4" name="Rectangle 43"/>
            <p:cNvSpPr/>
            <p:nvPr/>
          </p:nvSpPr>
          <p:spPr>
            <a:xfrm>
              <a:off x="5716800" y="2154240"/>
              <a:ext cx="276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另一只手是左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4"/>
          <p:cNvSpPr/>
          <p:nvPr/>
        </p:nvSpPr>
        <p:spPr>
          <a:xfrm>
            <a:off x="578880" y="2286000"/>
            <a:ext cx="605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700200" y="3141720"/>
            <a:ext cx="7975080" cy="647640"/>
            <a:chOff x="700200" y="3141720"/>
            <a:chExt cx="7975080" cy="647640"/>
          </a:xfrm>
        </p:grpSpPr>
        <p:sp>
          <p:nvSpPr>
            <p:cNvPr id="1027" name="Rectangle 6"/>
            <p:cNvSpPr/>
            <p:nvPr/>
          </p:nvSpPr>
          <p:spPr>
            <a:xfrm>
              <a:off x="700200" y="3141720"/>
              <a:ext cx="7975080" cy="6476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8" name="Group 7"/>
            <p:cNvGrpSpPr/>
            <p:nvPr/>
          </p:nvGrpSpPr>
          <p:grpSpPr>
            <a:xfrm>
              <a:off x="1269000" y="3141720"/>
              <a:ext cx="6833880" cy="647640"/>
              <a:chOff x="1269000" y="3141720"/>
              <a:chExt cx="6833880" cy="647640"/>
            </a:xfrm>
          </p:grpSpPr>
          <p:sp>
            <p:nvSpPr>
              <p:cNvPr id="1029" name="Line 8"/>
              <p:cNvSpPr/>
              <p:nvPr/>
            </p:nvSpPr>
            <p:spPr>
              <a:xfrm>
                <a:off x="1269000" y="3141720"/>
                <a:ext cx="0" cy="647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Line 9"/>
              <p:cNvSpPr/>
              <p:nvPr/>
            </p:nvSpPr>
            <p:spPr>
              <a:xfrm>
                <a:off x="2408400" y="3141720"/>
                <a:ext cx="0" cy="647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Line 10"/>
              <p:cNvSpPr/>
              <p:nvPr/>
            </p:nvSpPr>
            <p:spPr>
              <a:xfrm>
                <a:off x="5254560" y="3141720"/>
                <a:ext cx="0" cy="647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Line 11"/>
              <p:cNvSpPr/>
              <p:nvPr/>
            </p:nvSpPr>
            <p:spPr>
              <a:xfrm>
                <a:off x="1837440" y="3141720"/>
                <a:ext cx="0" cy="647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Line 12"/>
              <p:cNvSpPr/>
              <p:nvPr/>
            </p:nvSpPr>
            <p:spPr>
              <a:xfrm>
                <a:off x="2977200" y="3141720"/>
                <a:ext cx="0" cy="647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Line 13"/>
              <p:cNvSpPr/>
              <p:nvPr/>
            </p:nvSpPr>
            <p:spPr>
              <a:xfrm>
                <a:off x="3546000" y="3141720"/>
                <a:ext cx="0" cy="647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Line 14"/>
              <p:cNvSpPr/>
              <p:nvPr/>
            </p:nvSpPr>
            <p:spPr>
              <a:xfrm>
                <a:off x="4116960" y="3141720"/>
                <a:ext cx="0" cy="647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Line 15"/>
              <p:cNvSpPr/>
              <p:nvPr/>
            </p:nvSpPr>
            <p:spPr>
              <a:xfrm>
                <a:off x="4685760" y="3141720"/>
                <a:ext cx="0" cy="647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Line 16"/>
              <p:cNvSpPr/>
              <p:nvPr/>
            </p:nvSpPr>
            <p:spPr>
              <a:xfrm>
                <a:off x="5825520" y="3141720"/>
                <a:ext cx="0" cy="647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Line 17"/>
              <p:cNvSpPr/>
              <p:nvPr/>
            </p:nvSpPr>
            <p:spPr>
              <a:xfrm>
                <a:off x="6394320" y="3141720"/>
                <a:ext cx="0" cy="647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18"/>
              <p:cNvSpPr/>
              <p:nvPr/>
            </p:nvSpPr>
            <p:spPr>
              <a:xfrm>
                <a:off x="6963120" y="3141720"/>
                <a:ext cx="0" cy="647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Line 19"/>
              <p:cNvSpPr/>
              <p:nvPr/>
            </p:nvSpPr>
            <p:spPr>
              <a:xfrm>
                <a:off x="7534080" y="3141720"/>
                <a:ext cx="0" cy="647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Line 20"/>
              <p:cNvSpPr/>
              <p:nvPr/>
            </p:nvSpPr>
            <p:spPr>
              <a:xfrm>
                <a:off x="8102880" y="3141720"/>
                <a:ext cx="0" cy="647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2" name="Group 21"/>
          <p:cNvGrpSpPr/>
          <p:nvPr/>
        </p:nvGrpSpPr>
        <p:grpSpPr>
          <a:xfrm>
            <a:off x="1245960" y="3195720"/>
            <a:ext cx="6874560" cy="1007640"/>
            <a:chOff x="1245960" y="3195720"/>
            <a:chExt cx="6874560" cy="1007640"/>
          </a:xfrm>
        </p:grpSpPr>
        <p:sp>
          <p:nvSpPr>
            <p:cNvPr id="1043" name="Rectangle 22"/>
            <p:cNvSpPr/>
            <p:nvPr/>
          </p:nvSpPr>
          <p:spPr>
            <a:xfrm>
              <a:off x="1245960" y="3195720"/>
              <a:ext cx="39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23"/>
            <p:cNvSpPr/>
            <p:nvPr/>
          </p:nvSpPr>
          <p:spPr>
            <a:xfrm>
              <a:off x="2916000" y="3195720"/>
              <a:ext cx="5788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Rectangle 24"/>
            <p:cNvSpPr/>
            <p:nvPr/>
          </p:nvSpPr>
          <p:spPr>
            <a:xfrm>
              <a:off x="5173200" y="3195720"/>
              <a:ext cx="61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Rectangle 25"/>
            <p:cNvSpPr/>
            <p:nvPr/>
          </p:nvSpPr>
          <p:spPr>
            <a:xfrm>
              <a:off x="7503840" y="3195720"/>
              <a:ext cx="616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9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Rectangle 26"/>
          <p:cNvSpPr/>
          <p:nvPr/>
        </p:nvSpPr>
        <p:spPr>
          <a:xfrm>
            <a:off x="806760" y="3195720"/>
            <a:ext cx="49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7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27"/>
          <p:cNvSpPr/>
          <p:nvPr/>
        </p:nvSpPr>
        <p:spPr>
          <a:xfrm>
            <a:off x="1928880" y="3195720"/>
            <a:ext cx="49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9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28"/>
          <p:cNvSpPr/>
          <p:nvPr/>
        </p:nvSpPr>
        <p:spPr>
          <a:xfrm>
            <a:off x="2392560" y="3195720"/>
            <a:ext cx="71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1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29"/>
          <p:cNvSpPr/>
          <p:nvPr/>
        </p:nvSpPr>
        <p:spPr>
          <a:xfrm>
            <a:off x="3529080" y="3195720"/>
            <a:ext cx="71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1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30"/>
          <p:cNvSpPr/>
          <p:nvPr/>
        </p:nvSpPr>
        <p:spPr>
          <a:xfrm>
            <a:off x="4105440" y="3195720"/>
            <a:ext cx="71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1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31"/>
          <p:cNvSpPr/>
          <p:nvPr/>
        </p:nvSpPr>
        <p:spPr>
          <a:xfrm>
            <a:off x="4667400" y="3195720"/>
            <a:ext cx="71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14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32"/>
          <p:cNvSpPr/>
          <p:nvPr/>
        </p:nvSpPr>
        <p:spPr>
          <a:xfrm>
            <a:off x="5775480" y="3195720"/>
            <a:ext cx="71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16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33"/>
          <p:cNvSpPr/>
          <p:nvPr/>
        </p:nvSpPr>
        <p:spPr>
          <a:xfrm>
            <a:off x="6365880" y="3195720"/>
            <a:ext cx="71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17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34"/>
          <p:cNvSpPr/>
          <p:nvPr/>
        </p:nvSpPr>
        <p:spPr>
          <a:xfrm>
            <a:off x="6913440" y="3195720"/>
            <a:ext cx="71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18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35"/>
          <p:cNvSpPr/>
          <p:nvPr/>
        </p:nvSpPr>
        <p:spPr>
          <a:xfrm>
            <a:off x="8080560" y="3195720"/>
            <a:ext cx="71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2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Group 36"/>
          <p:cNvGrpSpPr/>
          <p:nvPr/>
        </p:nvGrpSpPr>
        <p:grpSpPr>
          <a:xfrm>
            <a:off x="561960" y="1251000"/>
            <a:ext cx="3217680" cy="958680"/>
            <a:chOff x="561960" y="1251000"/>
            <a:chExt cx="3217680" cy="958680"/>
          </a:xfrm>
        </p:grpSpPr>
        <p:pic>
          <p:nvPicPr>
            <p:cNvPr id="1058" name="Picture 37" descr="虫子-01"/>
            <p:cNvPicPr/>
            <p:nvPr/>
          </p:nvPicPr>
          <p:blipFill>
            <a:blip r:embed="rId1"/>
            <a:stretch/>
          </p:blipFill>
          <p:spPr>
            <a:xfrm>
              <a:off x="561960" y="1251000"/>
              <a:ext cx="3217680" cy="9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9" name="Rectangle 38"/>
            <p:cNvSpPr/>
            <p:nvPr/>
          </p:nvSpPr>
          <p:spPr>
            <a:xfrm>
              <a:off x="861840" y="1432080"/>
              <a:ext cx="24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内的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0" name="Group 4"/>
          <p:cNvGrpSpPr/>
          <p:nvPr/>
        </p:nvGrpSpPr>
        <p:grpSpPr>
          <a:xfrm>
            <a:off x="1187280" y="1603440"/>
            <a:ext cx="6840360" cy="1771200"/>
            <a:chOff x="1187280" y="1603440"/>
            <a:chExt cx="6840360" cy="1771200"/>
          </a:xfrm>
        </p:grpSpPr>
        <p:pic>
          <p:nvPicPr>
            <p:cNvPr id="1061" name="Picture 5" descr="圆珠红"/>
            <p:cNvPicPr/>
            <p:nvPr/>
          </p:nvPicPr>
          <p:blipFill>
            <a:blip r:embed="rId1"/>
            <a:srcRect l="1907" t="0" r="0" b="0"/>
            <a:stretch/>
          </p:blipFill>
          <p:spPr>
            <a:xfrm>
              <a:off x="1541520" y="1603440"/>
              <a:ext cx="6183000" cy="15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2" name="Freeform 6"/>
            <p:cNvSpPr/>
            <p:nvPr/>
          </p:nvSpPr>
          <p:spPr>
            <a:xfrm>
              <a:off x="7514640" y="3047760"/>
              <a:ext cx="513000" cy="326880"/>
            </a:xfrm>
            <a:custGeom>
              <a:avLst/>
              <a:gdLst/>
              <a:ahLst/>
              <a:rect l="l" t="t" r="r" b="b"/>
              <a:pathLst>
                <a:path w="454" h="181">
                  <a:moveTo>
                    <a:pt x="0" y="0"/>
                  </a:moveTo>
                  <a:cubicBezTo>
                    <a:pt x="23" y="42"/>
                    <a:pt x="46" y="84"/>
                    <a:pt x="91" y="91"/>
                  </a:cubicBezTo>
                  <a:cubicBezTo>
                    <a:pt x="136" y="98"/>
                    <a:pt x="212" y="30"/>
                    <a:pt x="272" y="45"/>
                  </a:cubicBezTo>
                  <a:cubicBezTo>
                    <a:pt x="332" y="60"/>
                    <a:pt x="393" y="120"/>
                    <a:pt x="454" y="18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7"/>
            <p:cNvSpPr/>
            <p:nvPr/>
          </p:nvSpPr>
          <p:spPr>
            <a:xfrm>
              <a:off x="1187280" y="2610000"/>
              <a:ext cx="455760" cy="174960"/>
            </a:xfrm>
            <a:custGeom>
              <a:avLst/>
              <a:gdLst/>
              <a:ahLst/>
              <a:rect l="l" t="t" r="r" b="b"/>
              <a:pathLst>
                <a:path w="362" h="97">
                  <a:moveTo>
                    <a:pt x="362" y="0"/>
                  </a:moveTo>
                  <a:cubicBezTo>
                    <a:pt x="316" y="41"/>
                    <a:pt x="271" y="83"/>
                    <a:pt x="226" y="90"/>
                  </a:cubicBezTo>
                  <a:cubicBezTo>
                    <a:pt x="181" y="97"/>
                    <a:pt x="128" y="45"/>
                    <a:pt x="90" y="45"/>
                  </a:cubicBezTo>
                  <a:cubicBezTo>
                    <a:pt x="52" y="45"/>
                    <a:pt x="26" y="67"/>
                    <a:pt x="0" y="9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8"/>
          <p:cNvSpPr/>
          <p:nvPr/>
        </p:nvSpPr>
        <p:spPr>
          <a:xfrm>
            <a:off x="1337760" y="1238400"/>
            <a:ext cx="605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9"/>
          <p:cNvSpPr/>
          <p:nvPr/>
        </p:nvSpPr>
        <p:spPr>
          <a:xfrm>
            <a:off x="1474920" y="4549680"/>
            <a:ext cx="55450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把第 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4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珠子涂上红色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10" descr="圆珠红"/>
          <p:cNvPicPr/>
          <p:nvPr/>
        </p:nvPicPr>
        <p:blipFill>
          <a:blip r:embed="rId2"/>
          <a:stretch/>
        </p:blipFill>
        <p:spPr>
          <a:xfrm rot="21111000">
            <a:off x="5578560" y="1700280"/>
            <a:ext cx="431640" cy="285840"/>
          </a:xfrm>
          <a:prstGeom prst="rect">
            <a:avLst/>
          </a:prstGeom>
          <a:ln w="0">
            <a:noFill/>
          </a:ln>
        </p:spPr>
      </p:pic>
      <p:grpSp>
        <p:nvGrpSpPr>
          <p:cNvPr id="1067" name="Group 11"/>
          <p:cNvGrpSpPr/>
          <p:nvPr/>
        </p:nvGrpSpPr>
        <p:grpSpPr>
          <a:xfrm>
            <a:off x="1476360" y="3573360"/>
            <a:ext cx="6481800" cy="705600"/>
            <a:chOff x="1476360" y="3573360"/>
            <a:chExt cx="6481800" cy="705600"/>
          </a:xfrm>
        </p:grpSpPr>
        <p:sp>
          <p:nvSpPr>
            <p:cNvPr id="1068" name="Rectangle 12"/>
            <p:cNvSpPr/>
            <p:nvPr/>
          </p:nvSpPr>
          <p:spPr>
            <a:xfrm>
              <a:off x="1476360" y="3573360"/>
              <a:ext cx="6481800" cy="6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从左数起，    是第</a:t>
              </a:r>
              <a:r>
                <a:rPr b="0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____</a:t>
              </a:r>
              <a:r>
                <a:rPr b="1" lang="zh-CN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珠子。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9" name="Picture 13" descr="圆珠红"/>
            <p:cNvPicPr/>
            <p:nvPr/>
          </p:nvPicPr>
          <p:blipFill>
            <a:blip r:embed="rId3"/>
            <a:stretch/>
          </p:blipFill>
          <p:spPr>
            <a:xfrm rot="19492800">
              <a:off x="3636720" y="3848040"/>
              <a:ext cx="539640" cy="30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0" name="Rectangle 14"/>
          <p:cNvSpPr/>
          <p:nvPr/>
        </p:nvSpPr>
        <p:spPr>
          <a:xfrm>
            <a:off x="5003640" y="3500280"/>
            <a:ext cx="93672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4"/>
          <p:cNvSpPr/>
          <p:nvPr/>
        </p:nvSpPr>
        <p:spPr>
          <a:xfrm>
            <a:off x="1173600" y="2351160"/>
            <a:ext cx="6350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Group 5"/>
          <p:cNvGrpSpPr/>
          <p:nvPr/>
        </p:nvGrpSpPr>
        <p:grpSpPr>
          <a:xfrm>
            <a:off x="2746440" y="2685960"/>
            <a:ext cx="1537920" cy="714240"/>
            <a:chOff x="2746440" y="2685960"/>
            <a:chExt cx="1537920" cy="714240"/>
          </a:xfrm>
        </p:grpSpPr>
        <p:sp>
          <p:nvSpPr>
            <p:cNvPr id="1073" name="AutoShape 6"/>
            <p:cNvSpPr/>
            <p:nvPr/>
          </p:nvSpPr>
          <p:spPr>
            <a:xfrm>
              <a:off x="2746440" y="2685960"/>
              <a:ext cx="1537920" cy="714240"/>
            </a:xfrm>
            <a:prstGeom prst="wedgeEllipseCallout">
              <a:avLst>
                <a:gd name="adj1" fmla="val -47796"/>
                <a:gd name="adj2" fmla="val 6963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7"/>
            <p:cNvSpPr/>
            <p:nvPr/>
          </p:nvSpPr>
          <p:spPr>
            <a:xfrm>
              <a:off x="2966400" y="2695320"/>
              <a:ext cx="12196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 +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5" name="Group 8"/>
          <p:cNvGrpSpPr/>
          <p:nvPr/>
        </p:nvGrpSpPr>
        <p:grpSpPr>
          <a:xfrm>
            <a:off x="5483160" y="2759040"/>
            <a:ext cx="1008000" cy="669600"/>
            <a:chOff x="5483160" y="2759040"/>
            <a:chExt cx="1008000" cy="669600"/>
          </a:xfrm>
        </p:grpSpPr>
        <p:sp>
          <p:nvSpPr>
            <p:cNvPr id="1076" name="AutoShape 9"/>
            <p:cNvSpPr/>
            <p:nvPr/>
          </p:nvSpPr>
          <p:spPr>
            <a:xfrm>
              <a:off x="5483160" y="2781000"/>
              <a:ext cx="1008000" cy="647640"/>
            </a:xfrm>
            <a:prstGeom prst="wedgeEllipseCallout">
              <a:avLst>
                <a:gd name="adj1" fmla="val 55356"/>
                <a:gd name="adj2" fmla="val 8308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0"/>
            <p:cNvSpPr/>
            <p:nvPr/>
          </p:nvSpPr>
          <p:spPr>
            <a:xfrm>
              <a:off x="5684760" y="2759040"/>
              <a:ext cx="5904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8" name="Picture 11" descr="P-116-2"/>
          <p:cNvPicPr/>
          <p:nvPr/>
        </p:nvPicPr>
        <p:blipFill>
          <a:blip r:embed="rId1"/>
          <a:stretch/>
        </p:blipFill>
        <p:spPr>
          <a:xfrm>
            <a:off x="5927760" y="3724200"/>
            <a:ext cx="1644480" cy="17636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2" descr="P-116"/>
          <p:cNvPicPr/>
          <p:nvPr/>
        </p:nvPicPr>
        <p:blipFill>
          <a:blip r:embed="rId2"/>
          <a:stretch/>
        </p:blipFill>
        <p:spPr>
          <a:xfrm>
            <a:off x="1811160" y="3616200"/>
            <a:ext cx="1805040" cy="1854360"/>
          </a:xfrm>
          <a:prstGeom prst="rect">
            <a:avLst/>
          </a:prstGeom>
          <a:ln w="0">
            <a:noFill/>
          </a:ln>
        </p:spPr>
      </p:pic>
      <p:grpSp>
        <p:nvGrpSpPr>
          <p:cNvPr id="1080" name="Group 13"/>
          <p:cNvGrpSpPr/>
          <p:nvPr/>
        </p:nvGrpSpPr>
        <p:grpSpPr>
          <a:xfrm>
            <a:off x="849240" y="1197000"/>
            <a:ext cx="3435120" cy="973080"/>
            <a:chOff x="849240" y="1197000"/>
            <a:chExt cx="3435120" cy="973080"/>
          </a:xfrm>
        </p:grpSpPr>
        <p:pic>
          <p:nvPicPr>
            <p:cNvPr id="1081" name="Picture 14" descr="虫子-01"/>
            <p:cNvPicPr/>
            <p:nvPr/>
          </p:nvPicPr>
          <p:blipFill>
            <a:blip r:embed="rId3"/>
            <a:stretch/>
          </p:blipFill>
          <p:spPr>
            <a:xfrm>
              <a:off x="849240" y="1197000"/>
              <a:ext cx="34351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2" name="Rectangle 15"/>
            <p:cNvSpPr/>
            <p:nvPr/>
          </p:nvSpPr>
          <p:spPr>
            <a:xfrm>
              <a:off x="975960" y="1377720"/>
              <a:ext cx="25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内的加法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3" name="Picture 16" descr="虫子-01"/>
          <p:cNvPicPr/>
          <p:nvPr/>
        </p:nvPicPr>
        <p:blipFill>
          <a:blip r:embed="rId4"/>
          <a:stretch/>
        </p:blipFill>
        <p:spPr>
          <a:xfrm>
            <a:off x="4356000" y="1197000"/>
            <a:ext cx="3672000" cy="973080"/>
          </a:xfrm>
          <a:prstGeom prst="rect">
            <a:avLst/>
          </a:prstGeom>
          <a:ln w="0">
            <a:noFill/>
          </a:ln>
        </p:spPr>
      </p:pic>
      <p:sp>
        <p:nvSpPr>
          <p:cNvPr id="1084" name="Rectangle 17"/>
          <p:cNvSpPr/>
          <p:nvPr/>
        </p:nvSpPr>
        <p:spPr>
          <a:xfrm>
            <a:off x="5146560" y="137808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内的加减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4"/>
          <p:cNvSpPr/>
          <p:nvPr/>
        </p:nvSpPr>
        <p:spPr>
          <a:xfrm>
            <a:off x="857880" y="1662120"/>
            <a:ext cx="6030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5"/>
          <p:cNvSpPr/>
          <p:nvPr/>
        </p:nvSpPr>
        <p:spPr>
          <a:xfrm>
            <a:off x="1832040" y="4324320"/>
            <a:ext cx="295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正方体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6"/>
          <p:cNvSpPr/>
          <p:nvPr/>
        </p:nvSpPr>
        <p:spPr>
          <a:xfrm>
            <a:off x="5148360" y="4324320"/>
            <a:ext cx="25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圆柱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7"/>
          <p:cNvSpPr/>
          <p:nvPr/>
        </p:nvSpPr>
        <p:spPr>
          <a:xfrm>
            <a:off x="1832040" y="5108400"/>
            <a:ext cx="302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长方体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8"/>
          <p:cNvSpPr/>
          <p:nvPr/>
        </p:nvSpPr>
        <p:spPr>
          <a:xfrm>
            <a:off x="5148360" y="5108400"/>
            <a:ext cx="244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球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0" name="Picture 9" descr="a-05 拷贝"/>
          <p:cNvPicPr/>
          <p:nvPr/>
        </p:nvPicPr>
        <p:blipFill>
          <a:blip r:embed="rId1"/>
          <a:stretch/>
        </p:blipFill>
        <p:spPr>
          <a:xfrm>
            <a:off x="1403280" y="1884240"/>
            <a:ext cx="584280" cy="1224000"/>
          </a:xfrm>
          <a:prstGeom prst="rect">
            <a:avLst/>
          </a:prstGeom>
          <a:ln w="0">
            <a:noFill/>
          </a:ln>
        </p:spPr>
      </p:pic>
      <p:sp>
        <p:nvSpPr>
          <p:cNvPr id="1091" name="AutoShape 10"/>
          <p:cNvSpPr/>
          <p:nvPr/>
        </p:nvSpPr>
        <p:spPr>
          <a:xfrm>
            <a:off x="1763640" y="3324240"/>
            <a:ext cx="1152720" cy="431640"/>
          </a:xfrm>
          <a:prstGeom prst="cube">
            <a:avLst>
              <a:gd name="adj" fmla="val 50472"/>
            </a:avLst>
          </a:prstGeom>
          <a:solidFill>
            <a:srgbClr val="ec76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AutoShape 11"/>
          <p:cNvSpPr/>
          <p:nvPr/>
        </p:nvSpPr>
        <p:spPr>
          <a:xfrm>
            <a:off x="5364000" y="2100240"/>
            <a:ext cx="865440" cy="865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66ffff">
                  <a:alpha val="50196"/>
                </a:srgbClr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AutoShape 12"/>
          <p:cNvSpPr/>
          <p:nvPr/>
        </p:nvSpPr>
        <p:spPr>
          <a:xfrm>
            <a:off x="3276720" y="3251160"/>
            <a:ext cx="1008000" cy="720720"/>
          </a:xfrm>
          <a:prstGeom prst="can">
            <a:avLst>
              <a:gd name="adj" fmla="val 35023"/>
            </a:avLst>
          </a:prstGeom>
          <a:gradFill rotWithShape="0">
            <a:gsLst>
              <a:gs pos="0">
                <a:srgbClr val="ffffff"/>
              </a:gs>
              <a:gs pos="100000">
                <a:srgbClr val="ffff00">
                  <a:alpha val="50196"/>
                </a:srgbClr>
              </a:gs>
            </a:gsLst>
            <a:lin ang="27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AutoShape 13"/>
          <p:cNvSpPr/>
          <p:nvPr/>
        </p:nvSpPr>
        <p:spPr>
          <a:xfrm>
            <a:off x="4530600" y="1844640"/>
            <a:ext cx="617760" cy="2016000"/>
          </a:xfrm>
          <a:prstGeom prst="cube">
            <a:avLst>
              <a:gd name="adj" fmla="val 22620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808000">
                  <a:alpha val="50196"/>
                </a:srgbClr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AutoShape 14"/>
          <p:cNvSpPr/>
          <p:nvPr/>
        </p:nvSpPr>
        <p:spPr>
          <a:xfrm>
            <a:off x="5364000" y="3252960"/>
            <a:ext cx="1008360" cy="639720"/>
          </a:xfrm>
          <a:prstGeom prst="cube">
            <a:avLst>
              <a:gd name="adj" fmla="val 50472"/>
            </a:avLst>
          </a:prstGeom>
          <a:gradFill rotWithShape="0">
            <a:gsLst>
              <a:gs pos="0">
                <a:srgbClr val="ffffff"/>
              </a:gs>
              <a:gs pos="100000">
                <a:srgbClr val="ffccff">
                  <a:alpha val="69019"/>
                </a:srgbClr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5"/>
          <p:cNvSpPr/>
          <p:nvPr/>
        </p:nvSpPr>
        <p:spPr>
          <a:xfrm>
            <a:off x="3376800" y="4300560"/>
            <a:ext cx="49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AutoShape 16"/>
          <p:cNvSpPr/>
          <p:nvPr/>
        </p:nvSpPr>
        <p:spPr>
          <a:xfrm>
            <a:off x="2771640" y="256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00cc00">
                  <a:alpha val="40000"/>
                </a:srgbClr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17"/>
          <p:cNvSpPr/>
          <p:nvPr/>
        </p:nvSpPr>
        <p:spPr>
          <a:xfrm>
            <a:off x="3376800" y="5086440"/>
            <a:ext cx="49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3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18"/>
          <p:cNvSpPr/>
          <p:nvPr/>
        </p:nvSpPr>
        <p:spPr>
          <a:xfrm>
            <a:off x="6315120" y="4300560"/>
            <a:ext cx="49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19"/>
          <p:cNvSpPr/>
          <p:nvPr/>
        </p:nvSpPr>
        <p:spPr>
          <a:xfrm>
            <a:off x="5954760" y="5086440"/>
            <a:ext cx="49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4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20"/>
          <p:cNvSpPr/>
          <p:nvPr/>
        </p:nvSpPr>
        <p:spPr>
          <a:xfrm>
            <a:off x="1908000" y="1862280"/>
            <a:ext cx="885960" cy="885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val 21"/>
          <p:cNvSpPr/>
          <p:nvPr/>
        </p:nvSpPr>
        <p:spPr>
          <a:xfrm>
            <a:off x="3348000" y="1947960"/>
            <a:ext cx="657360" cy="65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Oval 22"/>
          <p:cNvSpPr/>
          <p:nvPr/>
        </p:nvSpPr>
        <p:spPr>
          <a:xfrm>
            <a:off x="3995640" y="2509920"/>
            <a:ext cx="414360" cy="414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Oval 23"/>
          <p:cNvSpPr/>
          <p:nvPr/>
        </p:nvSpPr>
        <p:spPr>
          <a:xfrm>
            <a:off x="6516720" y="2201760"/>
            <a:ext cx="1201680" cy="1201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5" name="Group 24"/>
          <p:cNvGrpSpPr/>
          <p:nvPr/>
        </p:nvGrpSpPr>
        <p:grpSpPr>
          <a:xfrm>
            <a:off x="561960" y="692280"/>
            <a:ext cx="3217680" cy="958680"/>
            <a:chOff x="561960" y="692280"/>
            <a:chExt cx="3217680" cy="958680"/>
          </a:xfrm>
        </p:grpSpPr>
        <p:pic>
          <p:nvPicPr>
            <p:cNvPr id="1106" name="Picture 25" descr="虫子-01"/>
            <p:cNvPicPr/>
            <p:nvPr/>
          </p:nvPicPr>
          <p:blipFill>
            <a:blip r:embed="rId2"/>
            <a:stretch/>
          </p:blipFill>
          <p:spPr>
            <a:xfrm>
              <a:off x="561960" y="692280"/>
              <a:ext cx="3217680" cy="9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7" name="Rectangle 26"/>
            <p:cNvSpPr/>
            <p:nvPr/>
          </p:nvSpPr>
          <p:spPr>
            <a:xfrm>
              <a:off x="765000" y="873360"/>
              <a:ext cx="24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认 识 图 形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4"/>
          <p:cNvSpPr/>
          <p:nvPr/>
        </p:nvSpPr>
        <p:spPr>
          <a:xfrm>
            <a:off x="797400" y="1857240"/>
            <a:ext cx="6350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Group 5"/>
          <p:cNvGrpSpPr/>
          <p:nvPr/>
        </p:nvGrpSpPr>
        <p:grpSpPr>
          <a:xfrm>
            <a:off x="971640" y="4719600"/>
            <a:ext cx="1511280" cy="581040"/>
            <a:chOff x="971640" y="4719600"/>
            <a:chExt cx="1511280" cy="581040"/>
          </a:xfrm>
        </p:grpSpPr>
        <p:sp>
          <p:nvSpPr>
            <p:cNvPr id="1110" name="Rectangle 6"/>
            <p:cNvSpPr/>
            <p:nvPr/>
          </p:nvSpPr>
          <p:spPr>
            <a:xfrm>
              <a:off x="971640" y="4724280"/>
              <a:ext cx="1511280" cy="5763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7"/>
            <p:cNvSpPr/>
            <p:nvPr/>
          </p:nvSpPr>
          <p:spPr>
            <a:xfrm>
              <a:off x="1650600" y="4719600"/>
              <a:ext cx="388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Group 8"/>
          <p:cNvGrpSpPr/>
          <p:nvPr/>
        </p:nvGrpSpPr>
        <p:grpSpPr>
          <a:xfrm>
            <a:off x="2843280" y="4719600"/>
            <a:ext cx="1511280" cy="581040"/>
            <a:chOff x="2843280" y="4719600"/>
            <a:chExt cx="1511280" cy="581040"/>
          </a:xfrm>
        </p:grpSpPr>
        <p:sp>
          <p:nvSpPr>
            <p:cNvPr id="1113" name="Rectangle 9"/>
            <p:cNvSpPr/>
            <p:nvPr/>
          </p:nvSpPr>
          <p:spPr>
            <a:xfrm>
              <a:off x="2843280" y="4724280"/>
              <a:ext cx="1511280" cy="5763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10"/>
            <p:cNvSpPr/>
            <p:nvPr/>
          </p:nvSpPr>
          <p:spPr>
            <a:xfrm>
              <a:off x="3446280" y="4719600"/>
              <a:ext cx="388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en-US" sz="3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5" name="Group 11"/>
          <p:cNvGrpSpPr/>
          <p:nvPr/>
        </p:nvGrpSpPr>
        <p:grpSpPr>
          <a:xfrm>
            <a:off x="4716360" y="4719600"/>
            <a:ext cx="1511280" cy="581040"/>
            <a:chOff x="4716360" y="4719600"/>
            <a:chExt cx="1511280" cy="581040"/>
          </a:xfrm>
        </p:grpSpPr>
        <p:sp>
          <p:nvSpPr>
            <p:cNvPr id="1116" name="Rectangle 12"/>
            <p:cNvSpPr/>
            <p:nvPr/>
          </p:nvSpPr>
          <p:spPr>
            <a:xfrm>
              <a:off x="4716360" y="4724280"/>
              <a:ext cx="1511280" cy="5763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Rectangle 13"/>
            <p:cNvSpPr/>
            <p:nvPr/>
          </p:nvSpPr>
          <p:spPr>
            <a:xfrm>
              <a:off x="5395320" y="4719600"/>
              <a:ext cx="388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8" name="Group 14"/>
          <p:cNvGrpSpPr/>
          <p:nvPr/>
        </p:nvGrpSpPr>
        <p:grpSpPr>
          <a:xfrm>
            <a:off x="6961320" y="4719600"/>
            <a:ext cx="1511280" cy="581040"/>
            <a:chOff x="6961320" y="4719600"/>
            <a:chExt cx="1511280" cy="581040"/>
          </a:xfrm>
        </p:grpSpPr>
        <p:sp>
          <p:nvSpPr>
            <p:cNvPr id="1119" name="Rectangle 15"/>
            <p:cNvSpPr/>
            <p:nvPr/>
          </p:nvSpPr>
          <p:spPr>
            <a:xfrm>
              <a:off x="6961320" y="4724280"/>
              <a:ext cx="1511280" cy="5763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16"/>
            <p:cNvSpPr/>
            <p:nvPr/>
          </p:nvSpPr>
          <p:spPr>
            <a:xfrm>
              <a:off x="7640280" y="4719600"/>
              <a:ext cx="388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1" name="Rectangle 17"/>
          <p:cNvSpPr/>
          <p:nvPr/>
        </p:nvSpPr>
        <p:spPr>
          <a:xfrm>
            <a:off x="1239840" y="4724280"/>
            <a:ext cx="49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8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18"/>
          <p:cNvSpPr/>
          <p:nvPr/>
        </p:nvSpPr>
        <p:spPr>
          <a:xfrm>
            <a:off x="1855800" y="4724280"/>
            <a:ext cx="71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0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19"/>
          <p:cNvSpPr/>
          <p:nvPr/>
        </p:nvSpPr>
        <p:spPr>
          <a:xfrm>
            <a:off x="3023640" y="4724280"/>
            <a:ext cx="49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6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20"/>
          <p:cNvSpPr/>
          <p:nvPr/>
        </p:nvSpPr>
        <p:spPr>
          <a:xfrm>
            <a:off x="3659040" y="4724280"/>
            <a:ext cx="71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0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21"/>
          <p:cNvSpPr/>
          <p:nvPr/>
        </p:nvSpPr>
        <p:spPr>
          <a:xfrm>
            <a:off x="4966920" y="4724280"/>
            <a:ext cx="49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9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22"/>
          <p:cNvSpPr/>
          <p:nvPr/>
        </p:nvSpPr>
        <p:spPr>
          <a:xfrm>
            <a:off x="5600880" y="4724280"/>
            <a:ext cx="71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0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23"/>
          <p:cNvSpPr/>
          <p:nvPr/>
        </p:nvSpPr>
        <p:spPr>
          <a:xfrm>
            <a:off x="7095960" y="4724280"/>
            <a:ext cx="71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1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24"/>
          <p:cNvSpPr/>
          <p:nvPr/>
        </p:nvSpPr>
        <p:spPr>
          <a:xfrm>
            <a:off x="7839000" y="4724280"/>
            <a:ext cx="71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00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9" name="Group 25"/>
          <p:cNvGrpSpPr/>
          <p:nvPr/>
        </p:nvGrpSpPr>
        <p:grpSpPr>
          <a:xfrm>
            <a:off x="714240" y="714240"/>
            <a:ext cx="3217680" cy="958680"/>
            <a:chOff x="714240" y="714240"/>
            <a:chExt cx="3217680" cy="958680"/>
          </a:xfrm>
        </p:grpSpPr>
        <p:pic>
          <p:nvPicPr>
            <p:cNvPr id="1130" name="Picture 26" descr="虫子-01"/>
            <p:cNvPicPr/>
            <p:nvPr/>
          </p:nvPicPr>
          <p:blipFill>
            <a:blip r:embed="rId1"/>
            <a:stretch/>
          </p:blipFill>
          <p:spPr>
            <a:xfrm>
              <a:off x="714240" y="714240"/>
              <a:ext cx="3217680" cy="9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Rectangle 27"/>
            <p:cNvSpPr/>
            <p:nvPr/>
          </p:nvSpPr>
          <p:spPr>
            <a:xfrm>
              <a:off x="1014120" y="895320"/>
              <a:ext cx="24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认 识 钟 表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2" name="Picture 33" descr=""/>
          <p:cNvPicPr/>
          <p:nvPr/>
        </p:nvPicPr>
        <p:blipFill>
          <a:blip r:embed="rId2"/>
          <a:stretch/>
        </p:blipFill>
        <p:spPr>
          <a:xfrm>
            <a:off x="642960" y="2571840"/>
            <a:ext cx="801684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13:25:06Z</dcterms:created>
  <dc:creator/>
  <dc:description/>
  <dc:language>en-US</dc:language>
  <cp:lastModifiedBy>万润仪器贸易公司</cp:lastModifiedBy>
  <dcterms:modified xsi:type="dcterms:W3CDTF">2020-08-18T09:53:59Z</dcterms:modified>
  <cp:revision>10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